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181F-6C69-4982-BF5C-203738AE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89D-1D5E-4742-B93A-0D85DA44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8F8E6-1890-4B65-B508-00FB8FA5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5D864-6936-4826-990B-2D9C702E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2260C-5B27-47FD-A9C9-803921FA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DA0BD-2595-4970-9706-8E42889A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B55AA-0DD8-4BAE-B014-DF1A7469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7DB53-3BED-4515-9F87-B1068EC6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11ABF-EF46-4F69-A842-41DC76F7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FA9CC-3F43-4008-AE66-1FF32AA9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3BC58-78DC-45C2-A39C-6994F367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EE77B-37A6-46A8-8465-0630C961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6EFA-0E0F-4680-AA8E-06FB1A6A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767A1-C2CF-4FCD-9554-88EFF895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E2FDB-E834-46C7-928E-D57124B2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E938D-0857-4F5B-BA08-DB055971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50E07-22DD-4A27-863D-360335C5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32268-90F0-42B4-B92B-3A9B1FD2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A2CE5-99ED-415D-9D7A-1ED10E77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42B48-9084-42F0-8FE6-C0C62782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73BD6-37D5-4DD6-B4EB-B97B96DC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61635-F9D2-4419-B621-E98520FF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326EC-27F6-4DE8-889B-886CECD1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35F-4138-479D-BF1F-000BE14D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C3091-94E8-4744-A801-7BF732D7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4FCCA0-B1C8-4803-B624-BA8EF7F0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E74BAC-1A96-4D01-936F-857D834E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9F3E37-78AD-4F07-8FB3-3CEC64E2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12A8CC-A5C6-4E2E-8BD1-AB98FDA4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A110AB-21E7-4A84-85FE-7DA70FFD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E10E0A-1461-46E9-9300-989D8283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241DFC-43BF-4A7C-80DF-9142D226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BBA429-7B9E-4B93-9485-998FA3F5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75658B-CA9D-4E2B-92FE-8D0A21C7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18A78-4364-4AEE-A7C1-D974F3D1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3378F7-9150-4176-87F9-6A7F2078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C27FEC-5CB5-4419-9284-545BD4EA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667FFC-0F6E-4A2E-8460-AAFE538D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38903-0FFA-4FEA-BA3A-E482BFAE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E8F74-E1DF-4E66-920E-89067EB0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FDFAD-1B4F-45C1-9C2F-DEDF9FB1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9A5CF-7769-4589-99A4-018C8ADD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0F130-0CA3-4B29-A37A-9608A36E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CCA08-66E1-44C1-BA84-ECA77048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51F85-02A1-44EE-A325-41D3AD7F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7B187-16DD-42B2-8EE2-BEAF9811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0A8DD-C220-4758-A5BD-273152A3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2BC44-AF4A-46A4-91CE-E6E0A746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CC04D-75A2-4B90-93E1-4D5D8959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8653D-BCDD-4D86-945A-BE68C140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F82BB-763B-4798-9147-2CC96649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C708C-39D4-40A7-A50E-73F28C30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97A88-85B0-43A8-8E96-B8385D3B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234C7-D7CA-4993-840E-05CCAD49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D8646-3C15-4FC8-AFE1-A074A15A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BC9E2-FE05-4588-B83D-BF3AEB65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CDC1-24EF-4E47-9218-23DB0325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0E84D-546F-469B-B9E8-64DE935D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E8753-33B4-47BC-A351-1ECD07BE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7222D-8918-4FC8-AFF3-A43A80BC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80D92-F937-42E3-B171-9152FE53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A7D7E-C60E-4E08-A67F-769EFF87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9B3A5-1FAC-46C4-B7DA-4B59057D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C7DE5-1FE3-4A60-8F76-B3966A38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8E5E6-D0A5-441B-B1BA-77D4301F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31324-22E3-4D04-817C-E8749659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E6240-53D2-41C1-B0AE-A10BF706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FAB-EE89-404E-B214-CAA8C7FD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E924A-4704-4D5B-BA13-BFC904EB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530ED-F438-45F0-B347-B97E01F0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202EF-35B3-430C-AAD8-E2690763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6D139-4000-4D56-88CB-00452D6E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84AF9-7AA5-44C4-A33E-C8E8984A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3A452-D002-469C-A005-EDFF96DD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80E43-7FE2-4E1D-8E11-990FBCCC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E2704-B658-4551-A863-38B0F941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F4BAC-6274-4F89-A59D-82A098A7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8E0BD-A703-4D2D-BE2B-2423334D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6390-043C-4651-852A-CF1B1F2E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047C1-7FEC-4720-82EA-ABA42F4C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0E659-8A84-4B19-9477-5A79BBD5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1D291-116D-415D-BA36-8296A182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ED4BC-532A-4052-A489-3493955A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B9B09-C25B-499A-A48A-D4623036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453A0-1241-4219-891A-3E81B317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737EF-82C6-4412-AFDD-09B80BC6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4672D-DA5D-48E1-8191-614D434D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9B096-91D0-4CC4-847C-DD11E465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FE47B-4497-4E41-B1B4-1700DCD6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602-2709-4DFC-B0DA-0B0A32A5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1340F-8D4E-43FD-8B08-40C3B1FD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BE5EA-8270-4958-A5D3-6CFEC4BD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A33CB-E707-475B-BA11-19C34C0A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EEE8D-4B02-4CD6-A07E-0CBC5154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1EFBD-F314-4896-B22B-F9AE180C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28F3B-DDF0-4AC3-BD52-4D790F67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60BE3-0688-431E-8D48-1FBA76AD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02C75-DFAC-4799-97B5-2FB83BA0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FB039-B774-4E4A-B7E4-96EEB619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C4269-B983-43D7-BED3-D0136B62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09AF-00E0-4943-B470-F513D785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16AA8-4921-43FB-A122-ADEDEB7A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B21E5-CBA5-4C4F-9062-CF0A06F2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85529-D6D7-4566-88B2-8F8D5357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D5211-179B-45E4-90F9-0A8DAA83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088A5-AEF6-434C-BEA2-DE078C4C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E812C-AB70-42A9-A455-9BB32319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B0B11-5D2D-4888-A999-E49A80AF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DBCAA-DE5A-40E1-A228-B1ACB492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C1620-EC7B-403D-9E99-CF6D39EF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71054-E714-4A9F-8DB7-6C6BD14D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69E-392E-4522-8B92-BB917B61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11334-C33A-4400-8479-7ED593FC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54FB1-55D1-437E-8880-F678C40B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008EB-9A99-4370-8398-76D09EF2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F62F6-EE7A-4921-A084-2A6AA576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05155-CFEF-4AD6-9703-31EBD797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43FC3-51C7-47EC-BF9A-D5E850F9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5994E-F402-42F5-965E-83179D9E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88668-4AC6-46C2-BB7C-1AB54537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3A211-FBDF-48F1-8F79-4FA73940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DC638-D8BA-4ABD-AB5D-68706FF1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198-06D2-422C-9D47-20A73154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A6EA4-D9CF-4559-8BB6-40F54AD3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6AEFB-F694-4D67-87F3-5751BED2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AC261-2F29-4764-948E-D2F059C7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9875B-667E-4D85-9DA9-AE8EBBEB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E431A-4560-4C89-BF4D-1C99F08F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D133CE-4683-45EE-B0DD-208E715D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3880C7-5953-49A7-81E0-6296BE2C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FCE01E-DD4E-4A18-B941-B84C0A04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7F20B7-D333-4C7A-969E-970646F7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F6D933-D1AB-4CDF-8B90-F2364848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D15-2C58-4129-AC49-4CC1E6B7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5669AE-9E97-47F0-B508-47976AB8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68D681-3DE4-45E0-AB88-8589112D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965869-040D-465F-9372-2D64AA28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7E0443-9788-4835-B6EB-AD833A43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84B0E7-0AE3-4FC8-B716-DFAB7248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7D0996-76D8-4F5E-B4C0-77681104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E6B5B8-1D11-4955-9B39-8881436C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1D70E-DBA8-4108-B4F2-E81160ED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7424D-CB06-4FF4-943C-048AF6B6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F6424-49CE-44AE-B1E5-79986DB1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FF14-6680-429C-92AD-D45CB21102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3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B1C8-12DD-41D2-85A2-1A7EA52E1C3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378E-303A-4F66-A9D7-FBF68E0132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A9D5-D1FC-47F4-A036-09F7082B4E3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368A-C588-4EE8-9C61-7F1F0657C7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12FE-F40B-4A25-8FA9-A537F92F09F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F80A-F474-439F-90D2-6592E6E3A8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9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9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0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E1C2-7D66-4960-B552-E41F66918C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8E56-F684-491C-8F55-1DF330C8EC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7AFF-ED2C-46F9-8D7F-0AAEF1757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5A1C-13A9-4EAC-B88D-AF60D3EB77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8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8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9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6A7A-78F4-4A86-AAAE-43AFFA0F52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ikiznanie.ru/ru-wz/index.php/&#1047;&#1084;&#1077;&#1103;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leftpic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НУТРЕННИЕ ВОДЫ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ЮЖНОЙ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АМЕРИКИ</a:t>
            </a:r>
            <a:br>
              <a:rPr sz="6000"/>
            </a:b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5562720" y="2894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Прямоугольник 4"/>
          <p:cNvSpPr/>
          <p:nvPr/>
        </p:nvSpPr>
        <p:spPr>
          <a:xfrm>
            <a:off x="468360" y="5661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c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36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99"/>
                </a:solidFill>
                <a:latin typeface="Arial"/>
              </a:rPr>
              <a:t>Водопад Анхель</a:t>
            </a:r>
            <a:br>
              <a:rPr sz="40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5292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Самый высокий водопад на планете расположен в юго-восточной части Венесуэлы, в горном массиве Ауян-Тепуи, и носит имя своего первооткрывателя Хуана Анхеля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5" name="Picture 4" descr="АНХЕЛЬ"/>
          <p:cNvPicPr/>
          <p:nvPr/>
        </p:nvPicPr>
        <p:blipFill>
          <a:blip r:embed="rId1"/>
          <a:stretch/>
        </p:blipFill>
        <p:spPr>
          <a:xfrm>
            <a:off x="5364000" y="189000"/>
            <a:ext cx="3456000" cy="571500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5"/>
          <p:cNvSpPr/>
          <p:nvPr/>
        </p:nvSpPr>
        <p:spPr>
          <a:xfrm>
            <a:off x="6470280" y="5951520"/>
            <a:ext cx="17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1054 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70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1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3889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ffff"/>
                </a:solidFill>
                <a:latin typeface="Arial"/>
              </a:rPr>
              <a:t>Парана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1940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ccff"/>
                </a:solidFill>
                <a:latin typeface="Arial"/>
              </a:rPr>
              <a:t>Характеризуется ярко выраженной сезонностью режима. Много порогов и водопадов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7" descr="парана"/>
          <p:cNvPicPr/>
          <p:nvPr/>
        </p:nvPicPr>
        <p:blipFill>
          <a:blip r:embed="rId2"/>
          <a:stretch/>
        </p:blipFill>
        <p:spPr>
          <a:xfrm>
            <a:off x="0" y="1700280"/>
            <a:ext cx="4788000" cy="45720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9"/>
          <p:cNvSpPr/>
          <p:nvPr/>
        </p:nvSpPr>
        <p:spPr>
          <a:xfrm>
            <a:off x="4802040" y="406440"/>
            <a:ext cx="18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ahoma"/>
              </a:rPr>
              <a:t>4380к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Comic Sans MS"/>
              </a:rPr>
              <a:t>Водопад Игуас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42" name="Picture 4" descr="exig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e941c"/>
                </a:solidFill>
                <a:latin typeface="Arial"/>
              </a:rPr>
              <a:t>Игуасу-великие воды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44" name="Picture 5" descr="459036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51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Озеро Титикак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76720" y="1700280"/>
            <a:ext cx="4067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"/>
              </a:rPr>
              <a:t>на языке индейцев-инков- “свинцовая скала”.</a:t>
            </a:r>
            <a:r>
              <a:rPr b="0" lang="ru-RU" sz="5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5" descr="Плавучий остров Урос"/>
          <p:cNvPicPr/>
          <p:nvPr/>
        </p:nvPicPr>
        <p:blipFill>
          <a:blip r:embed="rId1"/>
          <a:stretch/>
        </p:blipFill>
        <p:spPr>
          <a:xfrm>
            <a:off x="0" y="2421000"/>
            <a:ext cx="493236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Самая полноводная река</a:t>
            </a: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 в мире – Амазон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83883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Пиран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Анако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Виктория-Регия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American Class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Самый высокий водопад в мире - Анхель.</a:t>
            </a:r>
            <a:br>
              <a:rPr sz="5400"/>
            </a:b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American Class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Самое большое из высокогорных озер - Титика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843280" y="0"/>
            <a:ext cx="6300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К  р  у  п  н  е  й  ш  и  е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рек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3631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А м а з о н к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Мараньо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Укаял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Мадейр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Риу-Негр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Оринок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П а р а н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Парагва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Сан-Франсиск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Бассейны океанов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468000" y="6858000"/>
            <a:ext cx="69840" cy="77760"/>
          </a:xfrm>
          <a:prstGeom prst="rect">
            <a:avLst/>
          </a:prstGeom>
          <a:noFill/>
          <a:ln w="0">
            <a:noFill/>
          </a:ln>
        </p:spPr>
        <p:txBody>
          <a:bodyPr tIns="32040" bIns="3204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0" name="Picture 4" descr="Image87"/>
          <p:cNvPicPr/>
          <p:nvPr/>
        </p:nvPicPr>
        <p:blipFill>
          <a:blip r:embed="rId1"/>
          <a:stretch/>
        </p:blipFill>
        <p:spPr>
          <a:xfrm>
            <a:off x="1835280" y="692280"/>
            <a:ext cx="5473440" cy="61657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5"/>
          <p:cNvSpPr/>
          <p:nvPr/>
        </p:nvSpPr>
        <p:spPr>
          <a:xfrm rot="16200000">
            <a:off x="-557280" y="30132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Тих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Text Box 7"/>
          <p:cNvSpPr/>
          <p:nvPr/>
        </p:nvSpPr>
        <p:spPr>
          <a:xfrm rot="5400000">
            <a:off x="6072480" y="3150360"/>
            <a:ext cx="45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Атлантиче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917960" y="19047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10" descr=""/>
          <p:cNvPicPr/>
          <p:nvPr/>
        </p:nvPicPr>
        <p:blipFill>
          <a:blip r:embed="rId1"/>
          <a:stretch/>
        </p:blipFill>
        <p:spPr>
          <a:xfrm>
            <a:off x="4427640" y="4076640"/>
            <a:ext cx="4716360" cy="24480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" descr="Бассейн Амазонки"/>
          <p:cNvPicPr/>
          <p:nvPr/>
        </p:nvPicPr>
        <p:blipFill>
          <a:blip r:embed="rId2"/>
          <a:stretch/>
        </p:blipFill>
        <p:spPr>
          <a:xfrm>
            <a:off x="250920" y="1413000"/>
            <a:ext cx="3960720" cy="4897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" descr=""/>
          <p:cNvPicPr/>
          <p:nvPr/>
        </p:nvPicPr>
        <p:blipFill>
          <a:blip r:embed="rId3"/>
          <a:stretch/>
        </p:blipFill>
        <p:spPr>
          <a:xfrm>
            <a:off x="4427640" y="1125360"/>
            <a:ext cx="4716360" cy="280692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0" y="10476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Tahoma"/>
              </a:rPr>
              <a:t>Амазонк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4716360" y="333360"/>
            <a:ext cx="33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-6400к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250920" y="623736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ahoma"/>
              </a:rPr>
              <a:t>7180тыс.кв.к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Обитатели Амазон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623" name="Picture 8" descr="анаконда"/>
          <p:cNvPicPr/>
          <p:nvPr/>
        </p:nvPicPr>
        <p:blipFill>
          <a:blip r:embed="rId1"/>
          <a:stretch/>
        </p:blipFill>
        <p:spPr>
          <a:xfrm>
            <a:off x="900000" y="1844640"/>
            <a:ext cx="3527640" cy="424836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9"/>
          <p:cNvSpPr/>
          <p:nvPr/>
        </p:nvSpPr>
        <p:spPr>
          <a:xfrm>
            <a:off x="1166760" y="5950080"/>
            <a:ext cx="30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анакон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4676760" y="1989000"/>
            <a:ext cx="447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иктория-Рег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6" name="Picture 14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4176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970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 Black"/>
              </a:rPr>
              <a:t>пирань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427280" y="1196640"/>
            <a:ext cx="471636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Опасны тигры 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это ясно.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Пиранья 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более опасна.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Она без ры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и без воя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Съедает в речке всё живое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Picture 7" descr="ПИРАНЬЯ"/>
          <p:cNvPicPr/>
          <p:nvPr/>
        </p:nvPicPr>
        <p:blipFill>
          <a:blip r:embed="rId1"/>
          <a:stretch/>
        </p:blipFill>
        <p:spPr>
          <a:xfrm>
            <a:off x="0" y="1989000"/>
            <a:ext cx="43560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Arial"/>
              </a:rPr>
              <a:t>Ориноко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0072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В переводе с языка индейцев - Кольчатая </a:t>
            </a:r>
            <a:r>
              <a:rPr b="0" lang="ru-RU" sz="4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змея</a:t>
            </a: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32" name="Picture 4" descr=""/>
          <p:cNvPicPr/>
          <p:nvPr/>
        </p:nvPicPr>
        <p:blipFill>
          <a:blip r:embed="rId2"/>
          <a:stretch/>
        </p:blipFill>
        <p:spPr>
          <a:xfrm>
            <a:off x="0" y="1413000"/>
            <a:ext cx="4500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heckerboard(across)" transition="out">
                                      <p:cBhvr additive="repl">
                                        <p:cTn id="30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5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3:15:11Z</dcterms:created>
  <dc:creator>ioo</dc:creator>
  <dc:description/>
  <dc:language>en-US</dc:language>
  <cp:lastModifiedBy>гелюся</cp:lastModifiedBy>
  <dcterms:modified xsi:type="dcterms:W3CDTF">2013-02-07T19:28:31Z</dcterms:modified>
  <cp:revision>41</cp:revision>
  <dc:subject/>
  <dc:title>ВНУТРЕННИЕ ВОДЫ ЮЖНОЙ АМЕРИКИ</dc:title>
</cp:coreProperties>
</file>